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B03-FB1B-4359-92ED-CD252D41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459468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4A5C-0490-4C77-BAB6-949920EE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612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7D6-391F-4313-8388-5697501F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58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24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58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24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5E6-F3D7-4F5B-A606-B294B053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5792-F08F-4A2D-A68F-D525E534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4212-EF3D-4398-95C6-FC42ABDA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B292-1673-482D-90C0-86C4B6F2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1E3C-63AE-48B7-9D7E-C765CC92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70E7-E5CB-4183-A873-CC1AF82C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360" y="717120"/>
            <a:ext cx="84567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EFA4-0979-4345-8E27-BE1B73B5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C22D-200F-4FDC-9DC7-110A46E8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5CD-31C8-4109-A103-71C8A2E1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612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E2EF-1454-478D-97D8-834EEDFD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1DC3-F090-40A8-9575-4279F514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79280" y="459468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0599-9ED8-4EE6-B324-4A40DDC8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612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0DDE-55D9-4628-AF7D-35AC22EE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558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24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792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558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24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2FEF-1F24-4A60-845F-54520916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A89B-9707-4F32-A68E-56791BD9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17CA5-F8E1-4944-B44D-A523D14B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7F7CB-109F-471F-8847-499C1667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DB1E6-F8A8-45E7-93D5-7ED1234D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F3C22-857B-4DF8-8FDB-135231A8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F18-6FCF-4EC6-856D-B1F42F33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0360" y="717120"/>
            <a:ext cx="84567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2E90E-82C1-4716-8B3C-A171ED5B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6BE6B-1B37-4142-BFE4-574C071C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3612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69919-8676-462A-A740-8A39B69A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0694-D64E-4457-8015-3610E466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79280" y="459468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A4BAD-842D-4425-A609-745FFFCD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3612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B148B-7AB0-4792-B14D-A6AB824E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558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324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792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558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324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C0137-DEC7-4684-925D-8CBCB861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786B3-934E-447F-AB5C-20BC6983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64267-9BA2-4177-96DA-6BCA820F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76A3D-C50A-408E-A812-479296D1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8C9-6289-47AB-BE13-7D85A158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E6976-0C03-4F02-B2C3-EEFC5727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3BBD8-5882-4464-B7BA-567B3471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0360" y="717120"/>
            <a:ext cx="84567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69DDD-F234-49B5-8832-20005796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59D4C-5308-4A17-BB22-AB2DC472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3612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BF0FB-0B07-4CEE-A2C8-BA4B16E9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B31EA-0541-4051-9CAC-3FF4E8E0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079280" y="459468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42AC1-B01F-4902-AB57-CB9576EE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3612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6B5F7-02FF-44C2-9261-09B36BE2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558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324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0792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558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324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CC2BB-F9C8-4808-8339-41417E36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BEF-7D56-4A89-B668-235001D3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717120"/>
            <a:ext cx="84567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062-4D14-4C53-B425-26763530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DF1-2FA2-45E8-8D4F-E0A2FB2D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612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53C-EBBC-4705-8D16-6FDF5C66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7E8-7D4B-4A3B-915C-B73D2BF4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E686E-7A90-45D1-9278-1898ED261D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7640" y="1913040"/>
            <a:ext cx="8672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527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11360" y="6527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54640" y="6527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232E0-7F35-450C-BA30-B03C7DDCC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360" y="553680"/>
            <a:ext cx="8637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748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360" y="645480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45480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83000" y="645480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683D7-77F6-4430-98A3-6FA856283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DCCAC-A9A3-4F69-B903-24B99B66667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0360" y="717480"/>
            <a:ext cx="8459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wan Brown J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43000" y="1644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057400" y="1600200"/>
            <a:ext cx="6629400" cy="571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Division word proble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685800"/>
            <a:ext cx="8459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95400" y="1852200"/>
            <a:ext cx="792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911240"/>
            <a:ext cx="70866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rry Potter ate 42 bags of  jelly beans in 2 weeks . How many jelly beans did he eat in 2 weeks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0360" y="717480"/>
            <a:ext cx="8459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14400" y="2329920"/>
            <a:ext cx="792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29718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42         2    =    J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3429000"/>
            <a:ext cx="68580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29718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429000"/>
            <a:ext cx="68580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6576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057400" y="3882960"/>
            <a:ext cx="1440" cy="1378080"/>
          </a:xfrm>
          <a:prstGeom prst="line">
            <a:avLst/>
          </a:prstGeom>
          <a:ln w="1645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5257800"/>
            <a:ext cx="2057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umber of bags  with jelly b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037040" y="3846240"/>
            <a:ext cx="1440" cy="1377720"/>
          </a:xfrm>
          <a:prstGeom prst="line">
            <a:avLst/>
          </a:prstGeom>
          <a:ln w="1645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5257800"/>
            <a:ext cx="1371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umber  of wee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234120" y="3882960"/>
            <a:ext cx="1440" cy="1378080"/>
          </a:xfrm>
          <a:prstGeom prst="line">
            <a:avLst/>
          </a:prstGeom>
          <a:ln w="1645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86400" y="5353200"/>
            <a:ext cx="182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llybeans Harry 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71600" y="10843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74880" y="10843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15876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74880" y="15876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0923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74880" y="20923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5956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74880" y="25956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0639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74880" y="30639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35672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74880" y="35672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40719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74880" y="40719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5752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74880" y="45752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50799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74880" y="50799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55832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74880" y="55832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51240" y="10843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5960" y="10843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51240" y="15876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55960" y="15876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6320" y="20923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19240" y="20923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6320" y="25956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9240" y="25956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6320" y="31003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19240" y="31003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16320" y="36036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19240" y="36036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16320" y="41068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19240" y="41068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16320" y="46116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9240" y="46116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6320" y="50799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19240" y="50799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16320" y="55832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19240" y="55832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59240" y="10843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63960" y="10843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656160" y="2971800"/>
            <a:ext cx="917280" cy="1440"/>
          </a:xfrm>
          <a:prstGeom prst="line">
            <a:avLst/>
          </a:prstGeom>
          <a:ln w="1098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2971800"/>
            <a:ext cx="11430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4:13:57Z</dcterms:created>
  <dc:creator/>
  <dc:description/>
  <dc:language>en-US</dc:language>
  <cp:lastModifiedBy/>
  <cp:revision>1</cp:revision>
  <dc:subject/>
  <dc:title/>
</cp:coreProperties>
</file>